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8D5-012E-4FC2-B34D-0DB03570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4F1-9B44-46E8-A717-1A57AE0F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44C-4E7D-465A-8B77-50A69ABC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129-795E-4CC0-8FDF-BEBE63FF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16D6-1A90-42DB-94BB-5E613B8D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D59C-6EC3-4EB1-A927-6B9B47E0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AF60-F10D-4474-A983-2900B0FC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A974-2288-4192-AC6F-E4286D85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7A0E-A130-4482-A2D5-6303AE6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B33-06BA-46E2-9B33-442A75C9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64D5-EE52-4653-A9E8-6293FAA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35C-9EFF-4A9A-8971-33E0E287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872A-3418-4C57-B5D3-52ABE8E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A52-9089-4B11-B784-FAD2816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995-7B21-4769-B846-41C2CF3A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181-5066-4C95-B7B4-AA8462DA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974-D27D-4557-818A-79BB880E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433-11F0-49D5-8F26-AD312FB2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093-060F-4876-8BE1-9881415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05E-3286-46EE-85DD-6EACE956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72F-FCC7-4DF8-99A1-C4D381D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3E4-9CFD-4326-8D3C-906C1EE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593-C4F2-4369-B9B8-730EAACD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A55-1409-4AE1-9A71-DC3D5EA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1BA-3143-4001-AEC5-F0CE7A192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8211-9B31-4B4F-9A97-344564831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买家后台使用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4200" y="2499840"/>
            <a:ext cx="8715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您只要简单操作三步就可以赚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佣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不花自己一分钱，用卖家红包购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完成评价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，卖家忘打款，可旺旺提醒对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整个过程您只需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鼠标，花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分钟左右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就可赚得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500200" y="2071800"/>
            <a:ext cx="40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85840" y="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合适互刷，网赚，需刷单，接单的人使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无需任何入会费，押金，流动资金，整过程无一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金钱交易，完全免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17.png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给卖家五星好评后，就只需等待对方的打款了，软件都有做好记录，可随时查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三步：进入评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0040" y="642600"/>
            <a:ext cx="81439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不会淘宝购物的朋友可以进下面网址学下图片如何购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service.taobao.com/support/knowledge-1115818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不会评价的朋友，可以进入下面学下图片评价教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jingyan.baidu.com/article/6c67b1d6c2ecf82787bb1ebb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淘宝交易流程视频详解 怎么付款、确认收货、评价 教程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video.sina.com.cn/v/b/87150452-195614870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淘宝帐号注册图片教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service.taobao.com/support/knowledge-1114071.htm?spm=0.0.0.0.sgAiCi&amp;dkey=cat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申请后，需要等待卖家审核，审核通过后，就可以获得卖家的红包，就可以无需花一分钱，进入购买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一步：申请接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卖家给的红包进入付款，按任务要求进行购买，看不懂要求，请看菜单中帮助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述语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二步：进入购买商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11.pn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12.png"/>
          <p:cNvPicPr/>
          <p:nvPr/>
        </p:nvPicPr>
        <p:blipFill>
          <a:blip r:embed="rId1"/>
          <a:stretch/>
        </p:blipFill>
        <p:spPr>
          <a:xfrm>
            <a:off x="426960" y="0"/>
            <a:ext cx="82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13.png"/>
          <p:cNvPicPr/>
          <p:nvPr/>
        </p:nvPicPr>
        <p:blipFill>
          <a:blip r:embed="rId1"/>
          <a:stretch/>
        </p:blipFill>
        <p:spPr>
          <a:xfrm>
            <a:off x="9360" y="1119240"/>
            <a:ext cx="9125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14.png"/>
          <p:cNvPicPr/>
          <p:nvPr/>
        </p:nvPicPr>
        <p:blipFill>
          <a:blip r:embed="rId1"/>
          <a:stretch/>
        </p:blipFill>
        <p:spPr>
          <a:xfrm>
            <a:off x="109440" y="933480"/>
            <a:ext cx="89251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15.png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16.png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0:49:08Z</dcterms:created>
  <dc:creator>微软中国</dc:creator>
  <dc:description/>
  <dc:language>en-US</dc:language>
  <cp:lastModifiedBy>User</cp:lastModifiedBy>
  <dcterms:modified xsi:type="dcterms:W3CDTF">2013-07-24T03:33:38Z</dcterms:modified>
  <cp:revision>60</cp:revision>
  <dc:subject/>
  <dc:title>PowerPoint 演示文稿</dc:title>
</cp:coreProperties>
</file>