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5058-F1F4-466A-9A9A-D96874028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C735-04D1-4C64-B912-14AB4416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2111-2A81-4672-A0FF-64DF25194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C982-868C-4CD4-81E7-C6E765040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2C20-C7CD-4A89-84D1-CC076D93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AAAD-975B-4453-9B67-1EF8D0C5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10CD-EC5C-4615-818E-F8571AB1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939B-0E64-4515-BDDF-965D87D5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B47C-6B4F-43BA-ACA0-8BEA664E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7BA1-F30D-4540-9A72-0A7B86C5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5E33-AAB7-4224-A750-276A1640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F2D3-BDFE-4D69-9706-5BCCDE73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F7BF-DC22-43F4-BB92-4FADA847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F889-8F59-4C9E-BD90-15C2F908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E898-811F-4958-9074-41E602B4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0DE2-C068-4F01-9C2A-C2FB15C2B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50EC-69F1-430D-835F-1323AC64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0110-5D0F-46EE-96C3-7CD3C38B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DE43-A7E8-4FF6-89B8-E9B1E11C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E258-9D34-4AD0-B39F-923D2AB1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CAFC-8F82-4698-89EA-D7500132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F9F8-18FE-4479-88A1-B0E63EB5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6072-A143-4B7F-8237-CBAC4DA9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D501-5D12-4C7D-895D-E2EFC423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D161-15E0-456B-BD33-6CB1E09414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01B3-A8BE-4756-8520-20AAD95CBE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卖家后台使用说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3840" y="2499840"/>
            <a:ext cx="7358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您只要简单操作三步就可以完成刷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量越多越节省时间，提高效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完全模拟真实购物，不易降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整过程不花一分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只需评价后给购买的客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打</a:t>
            </a:r>
            <a:r>
              <a:rPr b="0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元的佣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副标题 2"/>
          <p:cNvSpPr/>
          <p:nvPr/>
        </p:nvSpPr>
        <p:spPr>
          <a:xfrm>
            <a:off x="4429080" y="0"/>
            <a:ext cx="4714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软件首页</a:t>
            </a:r>
            <a:r>
              <a:rPr b="1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:http://www.g5hui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副标题 2"/>
          <p:cNvSpPr/>
          <p:nvPr/>
        </p:nvSpPr>
        <p:spPr>
          <a:xfrm>
            <a:off x="2500200" y="2071800"/>
            <a:ext cx="4081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软件首页</a:t>
            </a:r>
            <a:r>
              <a:rPr b="1" lang="en-US" sz="1400" spc="-1" strike="noStrike">
                <a:solidFill>
                  <a:srgbClr val="000000"/>
                </a:solidFill>
                <a:latin typeface="幼圆"/>
                <a:ea typeface="幼圆"/>
              </a:rPr>
              <a:t>:http://www.g5hui.com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285840" y="0"/>
            <a:ext cx="4857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幼圆"/>
                <a:ea typeface="幼圆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合适互刷，网赚，需刷单，接单的人使用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无需任何入会费，押金，流动资金，整过程无一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金钱交易，完全免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3" descr="07.png"/>
          <p:cNvPicPr/>
          <p:nvPr/>
        </p:nvPicPr>
        <p:blipFill>
          <a:blip r:embed="rId1"/>
          <a:stretch/>
        </p:blipFill>
        <p:spPr>
          <a:xfrm>
            <a:off x="662040" y="866880"/>
            <a:ext cx="781992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查正那些已评价的买家是不是真的评价了，没问题就直接打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副标题 2"/>
          <p:cNvSpPr/>
          <p:nvPr/>
        </p:nvSpPr>
        <p:spPr>
          <a:xfrm>
            <a:off x="4429080" y="0"/>
            <a:ext cx="4714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软件首页</a:t>
            </a:r>
            <a:r>
              <a:rPr b="1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:http://www.g5hui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42960" y="13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第三步：审核评价打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3" descr="21.png"/>
          <p:cNvPicPr/>
          <p:nvPr/>
        </p:nvPicPr>
        <p:blipFill>
          <a:blip r:embed="rId1"/>
          <a:stretch/>
        </p:blipFill>
        <p:spPr>
          <a:xfrm>
            <a:off x="0" y="1127160"/>
            <a:ext cx="914400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2" descr="22.png"/>
          <p:cNvPicPr/>
          <p:nvPr/>
        </p:nvPicPr>
        <p:blipFill>
          <a:blip r:embed="rId1"/>
          <a:stretch/>
        </p:blipFill>
        <p:spPr>
          <a:xfrm>
            <a:off x="0" y="430200"/>
            <a:ext cx="914400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2" descr="23.png"/>
          <p:cNvPicPr/>
          <p:nvPr/>
        </p:nvPicPr>
        <p:blipFill>
          <a:blip r:embed="rId1"/>
          <a:stretch/>
        </p:blipFill>
        <p:spPr>
          <a:xfrm>
            <a:off x="0" y="743040"/>
            <a:ext cx="914400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2" descr="24.png"/>
          <p:cNvPicPr/>
          <p:nvPr/>
        </p:nvPicPr>
        <p:blipFill>
          <a:blip r:embed="rId1"/>
          <a:stretch/>
        </p:blipFill>
        <p:spPr>
          <a:xfrm>
            <a:off x="771480" y="371520"/>
            <a:ext cx="760104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2" descr="25.png"/>
          <p:cNvPicPr/>
          <p:nvPr/>
        </p:nvPicPr>
        <p:blipFill>
          <a:blip r:embed="rId1"/>
          <a:stretch/>
        </p:blipFill>
        <p:spPr>
          <a:xfrm>
            <a:off x="152280" y="1057320"/>
            <a:ext cx="88394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857160" y="2571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批量发布格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任务要求</a:t>
            </a:r>
            <a:r>
              <a:rPr b="0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@</a:t>
            </a: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宝贝网址</a:t>
            </a:r>
            <a:r>
              <a:rPr b="0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@</a:t>
            </a: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收货地址</a:t>
            </a:r>
            <a:r>
              <a:rPr b="0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@</a:t>
            </a: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评价要求</a:t>
            </a:r>
            <a:r>
              <a:rPr b="0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@</a:t>
            </a: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追加评价要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如其中那项不填写，“</a:t>
            </a:r>
            <a:r>
              <a:rPr b="0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@</a:t>
            </a: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还是要保留，如任务要求与收货地址不要，格式如下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@</a:t>
            </a: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宝贝网址</a:t>
            </a:r>
            <a:r>
              <a:rPr b="0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@@</a:t>
            </a: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评价要求</a:t>
            </a:r>
            <a:r>
              <a:rPr b="0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@</a:t>
            </a: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追加评价要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副标题 2"/>
          <p:cNvSpPr/>
          <p:nvPr/>
        </p:nvSpPr>
        <p:spPr>
          <a:xfrm>
            <a:off x="4429080" y="0"/>
            <a:ext cx="4714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软件首页</a:t>
            </a:r>
            <a:r>
              <a:rPr b="1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:http://www.g5hui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42960" y="13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第一步：批量发布刷的宝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提示：给过红包的小号支付宝都要做好登记，只要是这个小号的支付宝购物，都不要真发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42960" y="13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第二步：审核小号发红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副标题 2"/>
          <p:cNvSpPr/>
          <p:nvPr/>
        </p:nvSpPr>
        <p:spPr>
          <a:xfrm>
            <a:off x="4429080" y="0"/>
            <a:ext cx="4714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软件首页</a:t>
            </a:r>
            <a:r>
              <a:rPr b="1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:http://www.g5hui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3" descr="01.pn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" descr="02.png"/>
          <p:cNvPicPr/>
          <p:nvPr/>
        </p:nvPicPr>
        <p:blipFill>
          <a:blip r:embed="rId1"/>
          <a:stretch/>
        </p:blipFill>
        <p:spPr>
          <a:xfrm>
            <a:off x="0" y="1017720"/>
            <a:ext cx="914400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2" descr="03.png"/>
          <p:cNvPicPr/>
          <p:nvPr/>
        </p:nvPicPr>
        <p:blipFill>
          <a:blip r:embed="rId1"/>
          <a:stretch/>
        </p:blipFill>
        <p:spPr>
          <a:xfrm>
            <a:off x="0" y="492120"/>
            <a:ext cx="914400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3" descr="04.png"/>
          <p:cNvPicPr/>
          <p:nvPr/>
        </p:nvPicPr>
        <p:blipFill>
          <a:blip r:embed="rId1"/>
          <a:stretch/>
        </p:blipFill>
        <p:spPr>
          <a:xfrm>
            <a:off x="0" y="900000"/>
            <a:ext cx="914400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3" descr="05.png"/>
          <p:cNvPicPr/>
          <p:nvPr/>
        </p:nvPicPr>
        <p:blipFill>
          <a:blip r:embed="rId1"/>
          <a:stretch/>
        </p:blipFill>
        <p:spPr>
          <a:xfrm>
            <a:off x="0" y="241200"/>
            <a:ext cx="9144000" cy="63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3" descr="06.png"/>
          <p:cNvPicPr/>
          <p:nvPr/>
        </p:nvPicPr>
        <p:blipFill>
          <a:blip r:embed="rId1"/>
          <a:stretch/>
        </p:blipFill>
        <p:spPr>
          <a:xfrm>
            <a:off x="1324080" y="95400"/>
            <a:ext cx="649584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9T00:49:08Z</dcterms:created>
  <dc:creator>微软中国</dc:creator>
  <dc:description/>
  <dc:language>en-US</dc:language>
  <cp:lastModifiedBy>User</cp:lastModifiedBy>
  <dcterms:modified xsi:type="dcterms:W3CDTF">2013-07-24T03:29:53Z</dcterms:modified>
  <cp:revision>62</cp:revision>
  <dc:subject/>
  <dc:title>PowerPoint 演示文稿</dc:title>
</cp:coreProperties>
</file>